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AEF6-A552-44D0-9F22-13EFD9A94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2AF3-536E-484D-833B-2238FD08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F970-8B9C-4FCA-AE61-8E6B8B380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141B-D906-4E9A-AD63-72F7DCFC1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EE68-70DA-4AC6-A6C5-DF681310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82EA-4BD7-41D4-828D-F330CAE1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CE5F-BF31-4223-A15F-812B8512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4E64-4F2C-48AD-A89E-E3937661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5FF6-4760-4C17-9590-6B848031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84FB-B814-42B4-8C27-B9FC1CE0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C860-813A-40F3-AA25-E65148FC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A9EF-99C9-460C-A8A5-6C912E98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B496-A6D9-43A1-8E58-7BCB23BDF1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raktat.com/language/book/mestoim/znm.php" TargetMode="External"/><Relationship Id="rId2" Type="http://schemas.openxmlformats.org/officeDocument/2006/relationships/hyperlink" Target="http://www.traktat.com/language/book/mestoim/znm.php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928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5a2c64"/>
                </a:solidFill>
                <a:uFillTx/>
                <a:latin typeface="Calibri"/>
              </a:rPr>
              <a:t>Тема</a:t>
            </a:r>
            <a:r>
              <a:rPr b="1" lang="ru-RU" sz="4800" spc="-1" strike="noStrike">
                <a:solidFill>
                  <a:srgbClr val="5a2c64"/>
                </a:solidFill>
                <a:latin typeface="Calibri"/>
              </a:rPr>
              <a:t>: Местоимение как часть речи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8840" y="3857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a2c64"/>
                </a:solidFill>
                <a:latin typeface="Calibri"/>
              </a:rPr>
              <a:t>Русский язык, 6 класс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0040" y="1571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5a2c64"/>
                </a:solidFill>
                <a:uFillTx/>
                <a:latin typeface="Calibri"/>
              </a:rPr>
              <a:t>Основополагающий вопрос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42960" y="3000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a2c64"/>
                </a:solidFill>
                <a:latin typeface="Calibri"/>
              </a:rPr>
              <a:t>В чем заключается богатство русского язык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4296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5a2c64"/>
                </a:solidFill>
                <a:uFillTx/>
                <a:latin typeface="Calibri"/>
              </a:rPr>
              <a:t>Проблемный вопрос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00120" y="3286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a2c64"/>
                </a:solidFill>
                <a:latin typeface="Calibri"/>
              </a:rPr>
              <a:t>Какую роль играют местоимения в нашей реч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a2c64"/>
                </a:solidFill>
                <a:latin typeface="Calibri"/>
              </a:rPr>
              <a:t>Учебные вопрос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2560" y="1714680"/>
            <a:ext cx="87152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5a2c64"/>
                </a:solidFill>
                <a:latin typeface="Calibri"/>
              </a:rPr>
              <a:t>Что такое местоимени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5a2c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a2c64"/>
                </a:solidFill>
                <a:latin typeface="Calibri"/>
              </a:rPr>
              <a:t>Какие виды местоимений бываю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5a2c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a2c64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5a2c64"/>
                </a:solidFill>
                <a:latin typeface="Calibri"/>
              </a:rPr>
              <a:t>Каковы основные морфологические особенности местоимен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5a2c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a2c64"/>
                </a:solidFill>
                <a:latin typeface="Calibri"/>
              </a:rPr>
              <a:t>Какие разряды местоимений существую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a2c64"/>
                </a:solidFill>
                <a:latin typeface="Calibri"/>
              </a:rPr>
              <a:t>Данная тема рассчитана на 10 уроко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5a2c64"/>
                </a:solidFill>
                <a:uFillTx/>
                <a:latin typeface="Calibri"/>
              </a:rPr>
              <a:t>Представление результатов проект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a2c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a2c64"/>
                </a:solidFill>
                <a:latin typeface="Calibri"/>
              </a:rPr>
              <a:t>Бесе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a2c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a2c64"/>
                </a:solidFill>
                <a:latin typeface="Calibri"/>
              </a:rPr>
              <a:t>Самостоятельная рабо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a2c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a2c64"/>
                </a:solidFill>
                <a:latin typeface="Calibri"/>
              </a:rPr>
              <a:t>Сочин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a2c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a2c64"/>
                </a:solidFill>
                <a:latin typeface="Calibri"/>
              </a:rPr>
              <a:t>Презентац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a2c64"/>
                </a:solidFill>
                <a:latin typeface="Calibri"/>
              </a:rPr>
              <a:t>Ссылк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de66"/>
                </a:solidFill>
                <a:uFillTx/>
                <a:latin typeface="Calibri"/>
                <a:hlinkClick r:id="rId1"/>
              </a:rPr>
              <a:t>http://www.traktat.com/language/book/mestoim/znm.ph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de66"/>
                </a:solidFill>
                <a:uFillTx/>
                <a:latin typeface="Calibri"/>
                <a:hlinkClick r:id="rId2"/>
              </a:rPr>
              <a:t>http://www.traktat.com/language/book/mestoim/znm.ph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morpher.ru/Russian/Pronoun.asp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18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a2c64"/>
                </a:solidFill>
                <a:latin typeface="Calibri"/>
              </a:rPr>
              <a:t>Автор: Власова Ирина Евгеньев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4T03:22:30Z</dcterms:created>
  <dc:creator>Admin</dc:creator>
  <dc:description/>
  <dc:language>en-US</dc:language>
  <cp:lastModifiedBy>студент</cp:lastModifiedBy>
  <dcterms:modified xsi:type="dcterms:W3CDTF">2011-04-18T11:24:00Z</dcterms:modified>
  <cp:revision>10</cp:revision>
  <dc:subject/>
  <dc:title>Тема: Местоимение как часть речи.</dc:title>
</cp:coreProperties>
</file>